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463E-3D88-46F4-B783-6D12164DF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2E71-A754-4FDF-B2C4-1C006840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088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o-RO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1999, the Intel Teach Program has helped over 4 million educators in more than 35 countr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oal of 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se 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hemes of the Essentials Course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ing technology effectively in the classroom to promote 21st century ski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CFE2-6B4E-4D14-A6A8-8EF84707E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91D5-BCFE-4996-8AF9-9C0DA7FD7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2FE4-366A-4883-B4B1-7DC4C6158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B77C-2C08-4E0C-BBD0-BC64C0CD4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D608-10B9-467B-9DC1-076843BF0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AC35-D951-46D4-8664-FC2F499D5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9BCD-D353-4106-9037-8AC9E24BB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11EC-AC5C-4CFB-BF0B-C09F11BA8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B7C4-551B-4E60-8043-8CE03C484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4106-7A4F-4243-90D3-E2C94CD21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E23C-A976-4343-83DB-28831560B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BDB2-19F5-455B-8503-5E0566C86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F059-968C-4582-968F-F7B4E3A261B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6776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ntel®Teach 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  <a:ea typeface="Arial"/>
              </a:rPr>
              <a:t>–</a:t>
            </a:r>
            <a:br>
              <a:rPr sz="2800"/>
            </a:br>
            <a:r>
              <a:rPr b="1" lang="ro-RO" sz="2000" spc="-1" strike="noStrike">
                <a:solidFill>
                  <a:srgbClr val="ffffff"/>
                </a:solidFill>
                <a:latin typeface="Verdana"/>
                <a:ea typeface="Arial"/>
              </a:rPr>
              <a:t>Predarea în societatea cunoaşteri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82680" y="4149720"/>
            <a:ext cx="8300880" cy="1176480"/>
          </a:xfrm>
          <a:prstGeom prst="rect">
            <a:avLst/>
          </a:prstGeom>
          <a:solidFill>
            <a:srgbClr val="0860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Modulul 2</a:t>
            </a: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Planificarea unităţii de învăţ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Dezvoltarea întrebărilor-cheie ale curriculumului, pentru implicarea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3: Schimb de idei cu privire la întrebările–che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1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maţi  perechi şi consultaţi-vă cu privire la primele schiţe ale întrebărilor-cheie ale curriculumulu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„Lista pentru planul unităţii de învăţare” şi “Grila de cerinţe pentru întrebările de generare a proiectelor” (CD, directorul Evaluarea proiectelor) pentru a formula un feedback pentru colegul dumneavoastră în legătură cu întrebările sa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aceţi însemnări cu privire la ideile sugerate de colegul dumneavoastră în rubrica pentru comentarii din fişierul “Lista pentru planul unităţii de învăţare” pe care l-aţi salva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izuiţi întrebările dvs. prin prisma feedback-ului primi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B78A-9C9C-4BE6-8644-B94748D042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Metode multiple de evalu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integrată şi continuă stă la baza învăţării bazate pe proiec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cadrul unităţilor de învăţare bazată pe proiect, evaluarea ar trebui să fie planificată pentru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 utiliza o varietate de strategii de evalu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 include metode de evaluare pe tot parcursul procesului de instrui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 evalua obiectivele importante ale unităţii de învăţ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mplicarea elevilor în propria evalu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5EE4-E26F-42F9-814C-7CDEE63B54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Metode multiple de evalu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2.1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implica elevii în procesul de evaluare, trebuie să le asiguraţi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iterii clare, comunicate de la înce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emple şi sugestii pentru o activitate de calitate ridicat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portunităţi de monitorizare a propriului prog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etode pentru oferirea unui feedback constructiv colegilor şi pentru incorporarea feedback-ului de la ceilalţi pentru a  îmbunătăţi activitatea propr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imp pentru reflecţie şi pentru îmbunătăţirea produselor activităţ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prijin în stabilirea unor obiective noi, pentru activităţile ulterioare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44ED-71EB-46AF-B9B7-3D078A48C2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Metode multiple de evalu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449280" y="1806480"/>
            <a:ext cx="810108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ările formative sunt evaluări continue, care au loc înainte şi în timpul unei unităţi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ările sumative au loc la sfârşitul unei unităţi de învăţare sau al unui proiec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plorarea evaluărilor formative şi sumati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1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ecturaţi scopurile evaluării şi metodele de evaluare (2.1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şi discutaţi metodele de evaluare pentru planul unităţii dvs. folosind resursele de la Evaluarea proiectelor (2.14-2.1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cesaţi: </a:t>
            </a:r>
            <a:r>
              <a:rPr b="0" lang="ro-RO" sz="1600" spc="-1" strike="noStrike" u="sng">
                <a:solidFill>
                  <a:srgbClr val="0860a8"/>
                </a:solidFill>
                <a:uFillTx/>
                <a:latin typeface="Verdana"/>
              </a:rPr>
              <a:t>www.intel.com/education/AssessingProjec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tichetaţi sau marcaţi pagina web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ăsaţi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Ent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ăsaţi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ssessment Strategie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974E-11C6-4427-90AD-B7D0B7B9C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Metode multiple de evalu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Schiţarea  unui grafic de timp pentru evalua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16-2.1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rmăriţi exemple de grafice de timp pentru evaluare (în directorul Portofolii de pe CD-ul cu resurse curriculare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 şi schiţaţi un grafic de timp pentru evaluarea elevil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004A-892E-4C92-A424-1E700F0350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4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unui instrument de analiză a nevoilor de învăţare ale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Identificarea cunoştinţelor anterioare ale elevilo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18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exemplele de prezentări pentru evaluarea iniţială din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Modulul 2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Activitatea 4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de pe CD-ului cu resurse curricular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Opţional:) Pentru informaţii suplimentare, consultaţi resursa web Intel®Education. (2.18-2.19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860a8"/>
                </a:solidFill>
                <a:uFillTx/>
                <a:latin typeface="Verdana"/>
              </a:rPr>
              <a:t>www.intel.com/education/DesignProjec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860a8"/>
                </a:solidFill>
                <a:uFillTx/>
                <a:latin typeface="Verdana"/>
              </a:rPr>
              <a:t>www.intel.com/education/AssessingProject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EDC2-9FCB-4A53-AF63-AB87E46D2B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4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unui instrument de analiză a nevoilor de învăţare ale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49280" y="2052720"/>
            <a:ext cx="81010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Planificarea prez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fişierul “Planificarea unei prezentări în vederea evaluării iniţiale” de pe CD, Modulul 2, Activitatea 4.</a:t>
            </a:r>
            <a:br>
              <a:rPr sz="1800"/>
            </a:b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taţi întrebările cu un cole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lanificaţi conţinutul prezentării dv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3: Elaborarea  unei schiţ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o schiţă (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Outlin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) a conţinutului prezentării.</a:t>
            </a:r>
            <a:br>
              <a:rPr sz="1800"/>
            </a:b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ntru sugestii, puteţi utiliza Ghidul de asistenţă Intel Education, de p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prezentarea în directorul Evaluare din portofoliul dv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4: Adăugaţi elementele de bază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legeţi formatul, schema de culori, animaţiile, tranziţii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EF22-AAC4-4122-A24D-D226840DD2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4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unui instrument de analiză a nevoilor de învăţare ale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5: Îmbunătăţirea  prez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cideţi în privinţa caracteristicilor de desig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dăugaţi hyperlink-ur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seraţi tabele şi liste pentru a organiza informaţii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seraţi scheme sau grafice pentru claritatea mesajulu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utiliza Ghidul de asistenţă pentru sugestii de îmbunătăţire a designului prezentării dv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6: Verificarea prez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erificaţi-vă prezentarea, folosind lista de control de la pag. 2.23 din Manu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4037-6546-44EA-AA29-B99174D186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49280" y="1531800"/>
            <a:ext cx="81010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Revizuirea modululu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trebările-cheie ale curriculumului încurajează elevii să utilizeze capacităţi de gândire de nivel superior, îi ajută să înţeleagă pe deplin conceptele esenţiale şi oferă o structură pentru organizarea informaţiei factuale. Întrebările-cheie ale curriculumului sunt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o întrebare esenţială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întrebări de conţinut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Evaluările pentru unităţile de învăţare bazată pe proiect ar trebui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să fie incluse pe tot parcursul ciclului de învăţ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să evalueze obiectivele importante ale unităţi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să implice elevii în procesul de evalu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să utilizeze o varietate de instrumente de evaluare pentru analiza nevoilor de învăţare, încurajarea autonomiei şi colaborării, monitorizarea progresului, verificarea înţelegerii, încurajarea metacogniţiei, demonstrarea achiziţiilor învăţării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A859-5FA1-4F8F-9DC2-7890217EBC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1531800"/>
            <a:ext cx="81010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Utilizarea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blog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-ulu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activităţilor, competenţelor şi abordărilor vizate în cadrul acestui modul şi consemnaţi ideile în blog-ul dv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blog-ul person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temelor principale din acest modu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276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0860a8"/>
                </a:solidFill>
                <a:latin typeface="Verdana"/>
              </a:rPr>
              <a:t>Cum pot întrebările-cheie să contribuie la susţinerea procesului de învăţare al elevilor mei?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276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0860a8"/>
                </a:solidFill>
                <a:latin typeface="Verdana"/>
              </a:rPr>
              <a:t>Cum îmi pot planifica evaluarea continuă centrată pe elev?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zumaţi ceea ce aţi învăţat în acest modu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uaţi în considerare impactul celor învăţate asupra activităţii dvs. de predare şi asupra învăţării la elevi. Consemnaţi ideile, achiziţiile importante, precum şi întrebări sau eventuale aspecte difici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E7A8-AD65-4407-8D5A-8E419E1069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?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6560" y="2085840"/>
            <a:ext cx="8529480" cy="24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1: Predarea cu ajutorul proiectelor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2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bazată pe proiect</a:t>
            </a:r>
            <a:br>
              <a:rPr sz="2600"/>
            </a:br>
            <a:r>
              <a:rPr b="0" lang="ro-RO" sz="2600" spc="-1" strike="noStrike">
                <a:solidFill>
                  <a:srgbClr val="0c2e86"/>
                </a:solidFill>
                <a:latin typeface="Verdana"/>
                <a:ea typeface="Times New Roman"/>
              </a:rPr>
              <a:t>şi design-ul unităţii de învăţare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6BDC-ACC7-4FCD-AACA-29483F338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lanificare în avans – Activ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Extinderea capacităţii de a înţelege întrebările esenţial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Idei de proiect pentru întrebarea esenţială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şi discutaţi (prin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brainstormin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) idei noi de proiecte pentru aceeaşi întrebare esenţială (2.26-2.2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şi discutaţi alte unităţi de învăţare care ar putea avea legătură cu întrebarea dvs. esenţială (2.28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Revizuirea întrebărilor-cheie ale curriculumului (opţional)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9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izuiţi cerinţele, exemplele şi informaţiile privind întrebările-cheie ale curriculumulu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izuiţi propriile întrebăr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eţi discuta întrebările dvs. cu colegii, în modulul următor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68B1-E687-4208-8402-756D0066A6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lanificare în avans – Activitatea 2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analizarea standardelor şi obiectivelor operaţional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3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erificaţi standardele (competenţele specifice/ obiectivele de referinţă) şi obiectivele operaţionale din unitatea dvs.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grila de cerinţe pentru standarde şi obiectivele operaţionale de la pagina 2.31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justaţi standardele şi obiectivele operaţionale din unitatea dvs.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1A48-1FE8-48B6-924F-A20B70428B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800" y="0"/>
            <a:ext cx="82375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n continuare…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7080" y="4107960"/>
            <a:ext cx="8645400" cy="18687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Intrebarea esential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ate fi utiliz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eficient tehnologia pentru a sprijini si evalua procesul d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are al elevilor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Intreb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ri referitoare la modul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utiliza Internetul pentru a sprijini procesul meu de predare si procesul d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are al elevilor me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asigura o utilizare responsabi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si corespunz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oare a Internetulu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28760"/>
          <a:ext cx="8610480" cy="3679560"/>
        </p:xfrm>
        <a:graphic>
          <a:graphicData uri="http://schemas.openxmlformats.org/drawingml/2006/table">
            <a:tbl>
              <a:tblPr/>
              <a:tblGrid>
                <a:gridCol w="2338560"/>
                <a:gridCol w="6271920"/>
              </a:tblGrid>
              <a:tr h="41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</a:t>
                      </a: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l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3: Realizarea conexiu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unctul central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rnetul ca suport de pred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 si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t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crearea unui wiki pentru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mp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t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idei pentru atingerea standardelor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-o clas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centrat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pe el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gerea legilor copyright-ulu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(dreptul de autor)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aceste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 documente cu luc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 c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grarea si utilizarea resurselor Interne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c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, comunicarea,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laborarea,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olvarea problemelor pentru  dezvoltare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mpetenţelor pentru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secolul XXI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ei resurse de colaborare online pentru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mp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tasi id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ie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asupra propriei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blogul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CB59-1034-46BC-B459-14E63F8B723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DC16-938F-42DA-9E0F-7754531604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6CEA-58E2-4CF0-A022-D280E3605C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2840" y="739800"/>
          <a:ext cx="8470800" cy="3871800"/>
        </p:xfrm>
        <a:graphic>
          <a:graphicData uri="http://schemas.openxmlformats.org/drawingml/2006/table">
            <a:tbl>
              <a:tblPr/>
              <a:tblGrid>
                <a:gridCol w="2415960"/>
                <a:gridCol w="60548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</a:t>
                      </a:r>
                      <a:r>
                        <a:rPr b="1" lang="ro-RO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l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ro-RO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: </a:t>
                      </a:r>
                      <a:r>
                        <a:rPr b="1" lang="ro-RO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lanificarea unităţii de învăţar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ele centrale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trebările-cheie ale curriculumului şi evaluarea centrată pe el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standardelor </a:t>
                      </a:r>
                      <a:r>
                        <a:rPr b="0" lang="en-GB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rriculare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(obiective de referinţă sau competenţe specifice) pentru propria unitate de învăţ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-cheie ale curriculumul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</a:t>
                      </a:r>
                      <a:r>
                        <a:rPr b="0" lang="en-GB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i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strategii de evaluare efic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 al elevi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 în vederea evaluării iniţ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, în </a:t>
                      </a:r>
                      <a:r>
                        <a:rPr b="0" i="1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log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-ul 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4280" y="4187520"/>
            <a:ext cx="8467920" cy="1809720"/>
          </a:xfrm>
          <a:prstGeom prst="rect">
            <a:avLst/>
          </a:prstGeom>
          <a:solidFill>
            <a:srgbClr val="ffffff"/>
          </a:solidFill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area esenţială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ate fi utilizată cel mai eficient tehnologia pentru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usţine şi pentru a evalua </a:t>
            </a:r>
            <a:r>
              <a:rPr b="0" lang="ro-RO" sz="1600" spc="-1" strike="noStrike">
                <a:solidFill>
                  <a:srgbClr val="0860a8"/>
                </a:solidFill>
                <a:latin typeface="Arial"/>
                <a:ea typeface="Times New Roman"/>
              </a:rPr>
              <a:t>procesul de învăţar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modulului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2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întrebările-cheie ale curriculumului să susţină procesul de învăţar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2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planific evaluarea continuă centrată pe ele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7499-E347-49A5-92EA-4B0EECED7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Ce vom studi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7600" y="1028520"/>
            <a:ext cx="441504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3: Realizarea conexiunilor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tilizarea Internetului pentru susţinerea predării şi învăţăr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4: Crearea unei aplicaţii din perspectiva elevulu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Prezentarea proiectului elevului (publicaţie, prezentare, wiki, blog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5: Evaluarea proiectelor elevilor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Evaluare formativă si sumativ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6: Planificare pentru succes în învăţare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Suport pentru învăţare şi autodirecţion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7: Facilitare prin tehnologie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 facilitator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8: Prezentarea portofoliilor unităţilor de învăţare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Partajarea (împărtăşirea) învăţăr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1243-6FE9-4E98-9F55-6C52C6F411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1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Standarde 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curricular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viza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2.0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49280" y="1762200"/>
            <a:ext cx="810108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-un mediu de învăţare bazată pe proiect sau centrat pe elev, elevii trebuie să dovedească formarea competenţelor specifice, respectiv atingerea obiectivelor de referinţă cuprinse în programa şcolară, pr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plicarea noilor cunoştinţ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zolvarea de probleme specif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monstrarea faptului că au înţeles conţinutul de studiu.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21B2-4B8B-4F9E-972B-86EF67018F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1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Standarde 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curricular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vizat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9280" y="1762200"/>
            <a:ext cx="810108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Identificarea obiectivelor de referinţă/ competenţelor specific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0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raţi pe pagina web care conţine standardele curriculare (programele şcolare şi standardele de evaluare) pentru România - </a:t>
            </a:r>
            <a:r>
              <a:rPr b="0" lang="ro-RO" sz="1800" spc="-1" strike="noStrike" u="sng">
                <a:solidFill>
                  <a:srgbClr val="0860a8"/>
                </a:solidFill>
                <a:uFillTx/>
                <a:latin typeface="Verdana"/>
              </a:rPr>
              <a:t>http://www.edu.r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sau </a:t>
            </a:r>
            <a:r>
              <a:rPr b="0" lang="ro-RO" sz="1800" spc="-1" strike="noStrike" u="sng">
                <a:solidFill>
                  <a:srgbClr val="0860a8"/>
                </a:solidFill>
                <a:uFillTx/>
                <a:latin typeface="Verdana"/>
              </a:rPr>
              <a:t>http://cnc.ise.r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arcaţi sau etichetaţi pagina care cuprinde standardele curriculare pentru disciplina şi nivelul de studiu la care predaţ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piaţi competenţele specifice/ obiectivele de referinţă pe care le veţi viza, în planul unităţii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43B7-5D5F-40D8-8A67-294EB607BF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1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Standarde 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curricular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vizat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49280" y="1762200"/>
            <a:ext cx="810108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Crearea obiectivelor operaţional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02 – 2.0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planul unităţii de învăţare, creaţi obiectivele operaţionale în concordanţă cu standardele identificate. </a:t>
            </a:r>
            <a:br>
              <a:rPr sz="1800"/>
            </a:b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utiliza materialele suport indicate pe CD-ul cu resurse curriculare – Modulul 2, pagina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Site-uri web în modulul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receţi în revistă “Cerinţele pentru standarde  şi obiective” din Modulul 2, Activitatea 1 de pe CD-ul cu resurse curriculare (sau de la pagina 2.31 din manualul Intel Teach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izuiţi obiectivele, dacă este neces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CAAC-CE03-40A6-B9F4-4490A44836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Dezvoltarea întrebărilor-cheie ale curriculumului, pentru implicarea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Înţelegerea întrebărilor esenţiale, a întrebărilor de unitate şi a întrebărilor de conţinu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04 – 2.0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rmăriţi prezentarea despre întrebările-cheie ale curriculumului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al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aţi Grila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erinţe pentru întrebările-chei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ual, pg. 2.05 -2.06 sau pe CD, Modulul 2, Activitatea 2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ctivitate în grup: în echipe de câte 4, completaţi documentul „Întrebări de brainstorming” din Modulul 2, Activitatea 2, de pe CD-ul cu resursele curricul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C0AD-FDFD-4257-A03E-9BF08032B8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Dezvoltarea întrebărilor-cheie ale curriculumului, pentru implicarea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Elaborarea întrebărilor pentru propria unita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0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itiţi sugestiile pentru elaborarea întrebărilor esenţiale (2.07-2.08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modelele de întrebări de pe CD: Modulul 2, Activitatea 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 şi elaboraţi întrebările-che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2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Analizaţi competenţele specifice/ obiectivele de referinţă şi vedeţi în ce fel acoperă  “idei importante”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2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 planul unităţii de învăţare, elaboraţi o primă schiţă a întrebărilor, utilizând şi “Grila cu cerinţe pentru întrebările-cheie ale curriculumului” (Manual: pag. 2.05-2.06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2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Salvaţi fişierul “Lista pentru planul de unitate de învăţare” din directorul </a:t>
            </a:r>
            <a:r>
              <a:rPr b="0" i="1" lang="ro-RO" sz="1700" spc="-1" strike="noStrike">
                <a:solidFill>
                  <a:srgbClr val="0860a8"/>
                </a:solidFill>
                <a:latin typeface="Verdana"/>
              </a:rPr>
              <a:t>Evaluarea Portofoliului </a:t>
            </a: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de pe CD-ul cu resurse curriculare şi completaţi partea care se referă la întrebările-chei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154A-E112-4D2B-B35F-98A2EFC6BD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Olimpius Istrate</cp:lastModifiedBy>
  <cp:lastPrinted>2006-11-14T00:45:04Z</cp:lastPrinted>
  <dcterms:modified xsi:type="dcterms:W3CDTF">2007-08-26T09:29:35Z</dcterms:modified>
  <cp:revision>479</cp:revision>
  <dc:subject/>
  <dc:title>Presentation Title Goes Here</dc:title>
</cp:coreProperties>
</file>